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38789017"/>
        <c:axId val="26629329"/>
      </c:barChart>
      <c:catAx>
        <c:axId val="3878901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6629329"/>
        <c:crosses val="autoZero"/>
        <c:auto val="1"/>
        <c:lblAlgn val="ctr"/>
        <c:lblOffset val="100"/>
        <c:noMultiLvlLbl val="0"/>
      </c:catAx>
      <c:valAx>
        <c:axId val="2662932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878901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0A645-77FC-4168-8084-8512E1E03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986FC-69A6-44F0-8C28-21D3FB9EB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65625-BB1B-43A9-9A53-32FF17C87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FCA0E-FACA-4B2F-BCC8-286AFCADC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BE4B5-03B0-4F7F-B07C-2CCF81652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C99B5-1CBB-4C2B-8DA4-95DED8A0B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EC5D8-A728-4358-998B-54992FB1C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E313D-3036-4588-AA49-1027B2707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950E8-F770-4B22-92A4-06BA3AA95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FE4ED-B632-4A97-8B58-A051310CC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8D55A-FDE0-460C-AE34-CB78555D8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B0D5C-C812-471C-9871-D600E682B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70263-6DB7-48E5-A1CC-0D87AC0E3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B7EBB-B94C-4CEA-ACA8-E70BA4A7E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EE8D7-CE69-49B3-8482-421A10F1D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10A4F-14EB-4F95-9A82-1456ED029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9D346-3168-4EA2-860F-8FDCBE291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2FE49-368E-4912-ADD6-6293B8B0A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792E3-49EB-45BA-8291-C04F4CA9E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694D1-1D78-4DED-8385-18B9FFD2A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4258A-4832-4369-8C20-EEA76926A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239B6-24C3-4955-9C91-EBE537C17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659D5-321E-439D-9C51-FC0E55EEE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7253-43E1-4358-9719-194D1DF83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598705-DE86-43B7-98E8-CB3F705E742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0F2E8D-0DB9-43CD-A3E6-06FAAD5A097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