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7091186"/>
        <c:axId val="59183422"/>
      </c:barChart>
      <c:catAx>
        <c:axId val="6709118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9183422"/>
        <c:crosses val="autoZero"/>
        <c:auto val="1"/>
        <c:lblAlgn val="ctr"/>
        <c:lblOffset val="100"/>
        <c:noMultiLvlLbl val="0"/>
      </c:catAx>
      <c:valAx>
        <c:axId val="5918342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709118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F687A-3453-4440-BF99-AFC306FD1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CE5A7-F31D-41A8-8EFB-67AB2BD67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C7FE3-5410-4F6A-B2FF-64F75C03E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55971-3D91-4585-8429-4E2F6EF9E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A601F-6F95-4F1B-969A-5F71F0BED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F2EF1-425E-4EAC-B008-08D629BD5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6883D-2235-4CD6-B173-3B9ADC717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3B1CE-361F-4D40-A529-EEA46200C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F7F1A-AA97-483E-AB8F-C4599DBF0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5EBFA-76A3-4872-A992-0076AEEE0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BE966-3937-492F-8462-DC06678FB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1A482-7F28-4A64-80C7-A010C6E15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8F598-E951-4892-ACF6-180D2386C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9CC81-67C6-4A56-822E-E01AF39C6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083D1-6F68-4A29-828A-A3174113E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EB1DD-DD53-409A-ADEA-8ED500048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867B0-B45D-4ED7-A583-A53386F97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D07DE-7031-45BA-ABCB-E5F963C96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190BB-9138-4308-9B44-A281C6B13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6DDA1-4788-4902-A6DF-07D2FD41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8086-F427-4939-BE0F-CBE815949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75C1-C537-416F-A6A1-92FB10679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E3A0-2154-444E-B845-DECAFFA43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B8487-DDF9-4EDA-BFE1-755099280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0F4DA1-C175-4CA3-9E86-1F58EF3576C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86533F-F8DB-48E2-AB4F-EE21CCA2C06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